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8586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98A-86B6-4BDF-803B-90CC9EDB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9D0-6694-4045-9983-70FF9F2A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8FB-C95F-4F31-A5FB-BB909461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FF4-7C69-44F9-A08D-580A85B9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77E-34D4-42F9-9D62-086B04A9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C67-9A24-4FC9-B0F1-8C296316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EDE-4373-4CF2-A738-91ED3A5B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C33-88D8-4F47-B4FF-93D5B214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4160"/>
            <a:ext cx="91440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186-8A9D-42AC-A8AA-4E73B7C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0FF-0CBE-4F25-8D1F-152C279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5B7-AA36-4477-8642-8BDE64D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28F-8AC4-4DC5-A3B1-AC513206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818480"/>
            <a:ext cx="3216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F8A9-F885-430B-AC1D-E5C80DF3BC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505320"/>
            <a:ext cx="9272880" cy="3316320"/>
          </a:xfrm>
          <a:custGeom>
            <a:avLst/>
            <a:gdLst/>
            <a:ahLst/>
            <a:rect l="l" t="t" r="r" b="b"/>
            <a:pathLst>
              <a:path w="5841" h="2089">
                <a:moveTo>
                  <a:pt x="0" y="0"/>
                </a:moveTo>
                <a:lnTo>
                  <a:pt x="5840" y="0"/>
                </a:lnTo>
                <a:lnTo>
                  <a:pt x="5840" y="2088"/>
                </a:lnTo>
                <a:lnTo>
                  <a:pt x="0" y="20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082960"/>
            <a:ext cx="8751960" cy="1258560"/>
          </a:xfrm>
          <a:custGeom>
            <a:avLst/>
            <a:gdLst/>
            <a:ahLst/>
            <a:rect l="l" t="t" r="r" b="b"/>
            <a:pathLst>
              <a:path w="5513" h="793">
                <a:moveTo>
                  <a:pt x="0" y="0"/>
                </a:moveTo>
                <a:lnTo>
                  <a:pt x="5512" y="0"/>
                </a:lnTo>
                <a:lnTo>
                  <a:pt x="5512" y="792"/>
                </a:lnTo>
                <a:lnTo>
                  <a:pt x="0" y="7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6120" y="216000"/>
            <a:ext cx="8980560" cy="1245960"/>
          </a:xfrm>
          <a:custGeom>
            <a:avLst/>
            <a:gdLst/>
            <a:ahLst/>
            <a:rect l="l" t="t" r="r" b="b"/>
            <a:pathLst>
              <a:path w="5657" h="785">
                <a:moveTo>
                  <a:pt x="0" y="0"/>
                </a:moveTo>
                <a:lnTo>
                  <a:pt x="5656" y="0"/>
                </a:lnTo>
                <a:lnTo>
                  <a:pt x="5656" y="784"/>
                </a:lnTo>
                <a:lnTo>
                  <a:pt x="0" y="7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3968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Objective: To be able to use algebraic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to generate sequences and use them in pro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00" y="2222640"/>
            <a:ext cx="92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Task 1 for each of the 16 expressions write out the first 10 terms write down any thing you noti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240" y="349236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Task 2 divide the sugar paper into 6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In each section draw 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4559400"/>
            <a:ext cx="152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alw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01800" y="4495680"/>
            <a:ext cx="8673840" cy="2298960"/>
            <a:chOff x="901800" y="4495680"/>
            <a:chExt cx="8673840" cy="2298960"/>
          </a:xfrm>
        </p:grpSpPr>
        <p:sp>
          <p:nvSpPr>
            <p:cNvPr id="49" name=""/>
            <p:cNvSpPr/>
            <p:nvPr/>
          </p:nvSpPr>
          <p:spPr>
            <a:xfrm>
              <a:off x="901800" y="5079960"/>
              <a:ext cx="86738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41600" y="4546440"/>
              <a:ext cx="0" cy="22482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03840" y="4572000"/>
              <a:ext cx="0" cy="2171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7400" y="4546440"/>
              <a:ext cx="22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26280" y="4495680"/>
              <a:ext cx="1397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320" y="241200"/>
            <a:ext cx="9945720" cy="6402600"/>
          </a:xfrm>
          <a:custGeom>
            <a:avLst/>
            <a:gdLst/>
            <a:ahLst/>
            <a:rect l="l" t="t" r="r" b="b"/>
            <a:pathLst>
              <a:path w="6265" h="4033">
                <a:moveTo>
                  <a:pt x="0" y="0"/>
                </a:moveTo>
                <a:lnTo>
                  <a:pt x="6264" y="0"/>
                </a:lnTo>
                <a:lnTo>
                  <a:pt x="6264" y="4032"/>
                </a:lnTo>
                <a:lnTo>
                  <a:pt x="0" y="403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90440"/>
            <a:ext cx="0" cy="6197760"/>
          </a:xfrm>
          <a:prstGeom prst="line">
            <a:avLst/>
          </a:prstGeom>
          <a:ln w="38160">
            <a:solidFill>
              <a:srgbClr val="00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19840" y="203040"/>
            <a:ext cx="0" cy="6083640"/>
          </a:xfrm>
          <a:prstGeom prst="line">
            <a:avLst/>
          </a:prstGeom>
          <a:ln w="38160">
            <a:solidFill>
              <a:srgbClr val="00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3327480"/>
            <a:ext cx="9931320" cy="0"/>
          </a:xfrm>
          <a:prstGeom prst="line">
            <a:avLst/>
          </a:prstGeom>
          <a:ln w="38160">
            <a:solidFill>
              <a:srgbClr val="00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888840"/>
            <a:ext cx="3391200" cy="2337120"/>
            <a:chOff x="152280" y="888840"/>
            <a:chExt cx="3391200" cy="2337120"/>
          </a:xfrm>
        </p:grpSpPr>
        <p:sp>
          <p:nvSpPr>
            <p:cNvPr id="59" name=""/>
            <p:cNvSpPr/>
            <p:nvPr/>
          </p:nvSpPr>
          <p:spPr>
            <a:xfrm>
              <a:off x="406440" y="1300320"/>
              <a:ext cx="26668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89000" y="96984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92280" y="97956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9018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52760" y="8888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914400"/>
              <a:ext cx="1117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55600" y="279360"/>
            <a:ext cx="12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1752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5240" y="327672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prim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9200" y="30492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multiples of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327480"/>
            <a:ext cx="304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squar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85080" y="3403440"/>
            <a:ext cx="325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triangl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56080" y="812880"/>
            <a:ext cx="3390840" cy="2336760"/>
            <a:chOff x="3556080" y="812880"/>
            <a:chExt cx="3390840" cy="2336760"/>
          </a:xfrm>
        </p:grpSpPr>
        <p:sp>
          <p:nvSpPr>
            <p:cNvPr id="72" name=""/>
            <p:cNvSpPr/>
            <p:nvPr/>
          </p:nvSpPr>
          <p:spPr>
            <a:xfrm>
              <a:off x="3809880" y="1224000"/>
              <a:ext cx="26672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92800" y="89388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96080" y="90324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22760" y="8254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56200" y="8128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56080" y="838080"/>
              <a:ext cx="1117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921360" y="851040"/>
            <a:ext cx="3391200" cy="2336760"/>
            <a:chOff x="6921360" y="851040"/>
            <a:chExt cx="3391200" cy="2336760"/>
          </a:xfrm>
        </p:grpSpPr>
        <p:sp>
          <p:nvSpPr>
            <p:cNvPr id="79" name=""/>
            <p:cNvSpPr/>
            <p:nvPr/>
          </p:nvSpPr>
          <p:spPr>
            <a:xfrm>
              <a:off x="7175520" y="1262160"/>
              <a:ext cx="26668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58080" y="93204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61360" y="94140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88400" y="8636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321840" y="851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21360" y="876240"/>
              <a:ext cx="1117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6320" y="3886200"/>
            <a:ext cx="3390840" cy="2336760"/>
            <a:chOff x="76320" y="3886200"/>
            <a:chExt cx="3390840" cy="2336760"/>
          </a:xfrm>
        </p:grpSpPr>
        <p:sp>
          <p:nvSpPr>
            <p:cNvPr id="86" name=""/>
            <p:cNvSpPr/>
            <p:nvPr/>
          </p:nvSpPr>
          <p:spPr>
            <a:xfrm>
              <a:off x="330120" y="4297320"/>
              <a:ext cx="26672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2680" y="396720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16320" y="397656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3000" y="38988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886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320" y="3911760"/>
              <a:ext cx="1117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467160" y="3924360"/>
            <a:ext cx="3390840" cy="2336760"/>
            <a:chOff x="3467160" y="3924360"/>
            <a:chExt cx="3390840" cy="2336760"/>
          </a:xfrm>
        </p:grpSpPr>
        <p:sp>
          <p:nvSpPr>
            <p:cNvPr id="93" name=""/>
            <p:cNvSpPr/>
            <p:nvPr/>
          </p:nvSpPr>
          <p:spPr>
            <a:xfrm>
              <a:off x="3720960" y="4335480"/>
              <a:ext cx="26672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03880" y="400536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7160" y="401472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33840" y="39369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39243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67160" y="3949560"/>
              <a:ext cx="1117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858000" y="3962520"/>
            <a:ext cx="3390840" cy="2336760"/>
            <a:chOff x="6858000" y="3962520"/>
            <a:chExt cx="3390840" cy="2336760"/>
          </a:xfrm>
        </p:grpSpPr>
        <p:sp>
          <p:nvSpPr>
            <p:cNvPr id="100" name=""/>
            <p:cNvSpPr/>
            <p:nvPr/>
          </p:nvSpPr>
          <p:spPr>
            <a:xfrm>
              <a:off x="7112160" y="4373640"/>
              <a:ext cx="26668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94720" y="404352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98000" y="405288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4680" y="39751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58480" y="39625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0" y="3987720"/>
              <a:ext cx="1117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914400" y="6413400"/>
            <a:ext cx="8383680" cy="712800"/>
          </a:xfrm>
          <a:custGeom>
            <a:avLst/>
            <a:gdLst/>
            <a:ahLst/>
            <a:rect l="l" t="t" r="r" b="b"/>
            <a:pathLst>
              <a:path w="5281" h="449">
                <a:moveTo>
                  <a:pt x="0" y="0"/>
                </a:moveTo>
                <a:lnTo>
                  <a:pt x="5280" y="0"/>
                </a:lnTo>
                <a:lnTo>
                  <a:pt x="5280" y="448"/>
                </a:lnTo>
                <a:lnTo>
                  <a:pt x="0" y="4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22360" y="642636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- 24"/>
              </a:rPr>
              <a:t>Write the expressions in the correct column.  Try to justify why you made your deci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109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784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eve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117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120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123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126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129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132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140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143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146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149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152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155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158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161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164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167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170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7784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od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178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181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184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187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190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193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201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204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207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210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213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216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219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222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225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228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231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77840" y="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multiples of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239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242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245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248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251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254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262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265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268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271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274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277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280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283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286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289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292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77840" y="0"/>
            <a:ext cx="307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squar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300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303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306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309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312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315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323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326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329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332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335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338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341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344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347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350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353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77840" y="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prim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361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364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367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370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373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376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384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387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390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393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396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399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402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405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408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411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414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77840" y="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triangl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422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425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428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431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434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437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445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448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451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454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457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460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463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466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469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472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e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95360" y="5257800"/>
            <a:ext cx="9323280" cy="1411200"/>
          </a:xfrm>
          <a:custGeom>
            <a:avLst/>
            <a:gdLst/>
            <a:ahLst/>
            <a:rect l="l" t="t" r="r" b="b"/>
            <a:pathLst>
              <a:path w="5873" h="889">
                <a:moveTo>
                  <a:pt x="0" y="0"/>
                </a:moveTo>
                <a:lnTo>
                  <a:pt x="5872" y="0"/>
                </a:lnTo>
                <a:lnTo>
                  <a:pt x="5872" y="888"/>
                </a:lnTo>
                <a:lnTo>
                  <a:pt x="0" y="8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60520" y="101520"/>
            <a:ext cx="7227720" cy="5018040"/>
          </a:xfrm>
          <a:custGeom>
            <a:avLst/>
            <a:gdLst/>
            <a:ahLst/>
            <a:rect l="l" t="t" r="r" b="b"/>
            <a:pathLst>
              <a:path w="4553" h="3161">
                <a:moveTo>
                  <a:pt x="0" y="0"/>
                </a:moveTo>
                <a:lnTo>
                  <a:pt x="4552" y="0"/>
                </a:lnTo>
                <a:lnTo>
                  <a:pt x="4552" y="3160"/>
                </a:lnTo>
                <a:lnTo>
                  <a:pt x="0" y="31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917720" y="152280"/>
            <a:ext cx="5892840" cy="4632840"/>
            <a:chOff x="1917720" y="152280"/>
            <a:chExt cx="5892840" cy="4632840"/>
          </a:xfrm>
        </p:grpSpPr>
        <p:sp>
          <p:nvSpPr>
            <p:cNvPr id="477" name=""/>
            <p:cNvSpPr/>
            <p:nvPr/>
          </p:nvSpPr>
          <p:spPr>
            <a:xfrm>
              <a:off x="1930320" y="152280"/>
              <a:ext cx="5842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Prove the sum of 2 odd numbers is eve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55880" y="1790640"/>
              <a:ext cx="2006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2n +1 is od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81080" y="2235240"/>
              <a:ext cx="208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2m +1 is od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68480" y="1244520"/>
              <a:ext cx="4114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Let n and m be any integer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7720" y="3149640"/>
              <a:ext cx="426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Sans Unicode - 28"/>
                </a:rPr>
                <a:t>∴ </a:t>
              </a:r>
              <a:r>
                <a:rPr b="0" lang="pt-BR" sz="2200" spc="-1" strike="noStrike">
                  <a:solidFill>
                    <a:srgbClr val="000000"/>
                  </a:solidFill>
                  <a:latin typeface="Comic Sans MS - 28"/>
                </a:rPr>
                <a:t>2n +1 + 2m +1 = 2n +2m +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                         </a:t>
              </a: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=2(n+m+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33640" y="4356000"/>
              <a:ext cx="487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This is a multiple of 2 so is even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35040" y="5308560"/>
            <a:ext cx="878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A Prove the difference of 2 odd numbers is ev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B Prove the product of two odd numbers is od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94040" y="1244520"/>
            <a:ext cx="4840200" cy="1474920"/>
          </a:xfrm>
          <a:custGeom>
            <a:avLst/>
            <a:gdLst/>
            <a:ahLst/>
            <a:rect l="l" t="t" r="r" b="b"/>
            <a:pathLst>
              <a:path w="3049" h="929">
                <a:moveTo>
                  <a:pt x="0" y="0"/>
                </a:moveTo>
                <a:lnTo>
                  <a:pt x="3048" y="0"/>
                </a:lnTo>
                <a:lnTo>
                  <a:pt x="3048" y="928"/>
                </a:lnTo>
                <a:lnTo>
                  <a:pt x="0" y="9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54360" y="3048120"/>
            <a:ext cx="5640120" cy="1106280"/>
          </a:xfrm>
          <a:custGeom>
            <a:avLst/>
            <a:gdLst/>
            <a:ahLst/>
            <a:rect l="l" t="t" r="r" b="b"/>
            <a:pathLst>
              <a:path w="3553" h="697">
                <a:moveTo>
                  <a:pt x="0" y="0"/>
                </a:moveTo>
                <a:lnTo>
                  <a:pt x="3552" y="0"/>
                </a:lnTo>
                <a:lnTo>
                  <a:pt x="3552" y="696"/>
                </a:lnTo>
                <a:lnTo>
                  <a:pt x="0" y="6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4280040"/>
            <a:ext cx="4840200" cy="610920"/>
          </a:xfrm>
          <a:custGeom>
            <a:avLst/>
            <a:gdLst/>
            <a:ahLst/>
            <a:rect l="l" t="t" r="r" b="b"/>
            <a:pathLst>
              <a:path w="3049" h="385">
                <a:moveTo>
                  <a:pt x="0" y="0"/>
                </a:moveTo>
                <a:lnTo>
                  <a:pt x="3048" y="0"/>
                </a:lnTo>
                <a:lnTo>
                  <a:pt x="304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29:58Z</dcterms:created>
  <dc:creator>image</dc:creator>
  <dc:description/>
  <dc:language>en-US</dc:language>
  <cp:lastModifiedBy>image</cp:lastModifiedBy>
  <dcterms:modified xsi:type="dcterms:W3CDTF">2011-04-19T10:29:58Z</dcterms:modified>
  <cp:revision>1</cp:revision>
  <dc:subject/>
  <dc:title>Slide 1</dc:title>
</cp:coreProperties>
</file>